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9A9-9CF2-43FF-AC84-72477A9F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B2BE-0FD0-4CC1-94FA-55230CDC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3EA6-2D35-4C78-BC55-DCC7D327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1B8-805E-4AE1-BD33-D4BEA1BC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63B1-665C-4F03-AFA6-667E8A50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DB35-5FE8-4D11-BD89-2243CDDF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EECE-F721-41C1-A2E0-27D7A2C1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79C9-3EDC-478A-AE7E-FA43487D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61B9-83D6-4FC8-8DF8-6CBB63AB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A5ED-B7AF-4946-BB3E-E8179383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CA78-1572-4B4D-B0B1-5342AC7E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98A-E154-4629-8334-DCB657D0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8ED1-431D-439E-A8C3-AA2F03A9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9769-B587-4390-8F76-BCBA2CAC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1BCF-FB09-4289-B77B-A1561E0D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A6AA-85AC-4BAF-AF6D-059727D2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E89B-E8AE-4B92-A606-06B7CE46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81C5-4AF1-48A8-81D1-2A49F1DA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C7D75-FB11-4892-88BF-21A8CD61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D6055-1876-4D29-A33E-8DF0D7C5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DEE32-6F28-45AC-8A4F-7C78F159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0E135-4E40-4786-8FF5-B17C1121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7BD-FBAC-42F4-A06E-047E554E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D7B72-3100-4528-AF2C-929A23E3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6FB20-706A-4812-8B7E-802FD74D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6FADE-C9C3-4625-825D-049D5651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B84B-074B-431C-B89A-3613772C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0E321-8D15-4FF2-BC28-7B646D74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5953F-70C0-4DCC-9A31-7CF96EA2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1C5A5-A45B-4ACC-BF53-4596DCE6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01D96-0B7A-45E5-9B32-CA99E82D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7CCB5-C8EB-418D-A8B5-46E84F94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33512-0F92-42FE-BC8E-57545D9E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7E61-E84A-4A88-930C-8CD45473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300EA-0789-43B5-B06A-8397A73E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43348-40C3-41D8-BA3E-E2056D9D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62691-DCA3-4E8E-BA07-5D72954B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A188F-C481-43AF-9028-68DB537D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0AF72-E3E0-438E-82E1-F59AB75A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FF342-ABC1-4B73-A79F-C73A3507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1648C-BD8C-4C1A-9BA9-4C5BBF5A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B3B74-85BC-422D-9CAB-A1EAAB74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A8529-8C5C-4A82-8FCC-93057661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3B8-5AAA-4A73-A730-D2ADC3C3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D30-EE86-41FE-8073-DB56C507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209-F19C-4518-95B0-4B31C4E2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465-305C-4E95-9FBF-6FAA4055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881D-5B5B-4AF6-8AC2-92B562A4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ADBA-F96C-4268-B492-15C0AA5B266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8DC1-E8D4-4B60-95F5-36E164ED75E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77FD-1906-4554-9796-2DCBB58EC29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81E0-3276-422F-9B48-5379D8C181C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2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ER Diagram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tity-Relations (ER) Dia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es the interrelationships between entities in a datab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8FAE-437E-42E8-AB2C-9DCADA4E11E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925200" y="3048120"/>
            <a:ext cx="17150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5802840" y="2819520"/>
            <a:ext cx="17640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3363840" y="4267080"/>
            <a:ext cx="17654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men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pe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1"/>
          <p:cNvSpPr/>
          <p:nvPr/>
        </p:nvSpPr>
        <p:spPr>
          <a:xfrm flipV="1">
            <a:off x="5104800" y="3557520"/>
            <a:ext cx="685800" cy="1471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3"/>
          <p:cNvSpPr/>
          <p:nvPr/>
        </p:nvSpPr>
        <p:spPr>
          <a:xfrm flipH="1" flipV="1">
            <a:off x="2438280" y="4266720"/>
            <a:ext cx="914400" cy="762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Example: DVD rental Store System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743F-3B76-41F3-BDA4-D40F0146C93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http://wiki.ucalgary.ca/images/0/0a/ERDiagram.jpg"/>
          <p:cNvPicPr/>
          <p:nvPr/>
        </p:nvPicPr>
        <p:blipFill>
          <a:blip r:embed="rId1"/>
          <a:stretch/>
        </p:blipFill>
        <p:spPr>
          <a:xfrm>
            <a:off x="1447920" y="1631880"/>
            <a:ext cx="57909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se Stud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n appointment system in a clinic, where a patient can request to make an appointment to see a certain doctor at a specific time. Additionally, a doctor can use that system to record the timings where he would be available to see his patient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reserving an appointment, the receptionist has to make sure that the doctor speaks a language that the patient know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atient requests a specific device to be in the clinic, the receptionist should make sure that this device is available in the clinic to be reserv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, the receptionist should print  information  of the reserved appointment including the date, time, and clinic loc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00A2-2F88-4958-B3C6-510A66A4B40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2CC8-4147-44FA-AB74-19DD976A8E8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3972960" y="4191120"/>
            <a:ext cx="15613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3972960" y="914400"/>
            <a:ext cx="15613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6639840" y="3505320"/>
            <a:ext cx="1561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1375920" y="762120"/>
            <a:ext cx="1907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4"/>
          <p:cNvSpPr/>
          <p:nvPr/>
        </p:nvSpPr>
        <p:spPr>
          <a:xfrm>
            <a:off x="1304640" y="2362320"/>
            <a:ext cx="171828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oin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d/Not P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6"/>
          <p:cNvSpPr/>
          <p:nvPr/>
        </p:nvSpPr>
        <p:spPr>
          <a:xfrm>
            <a:off x="163800" y="5181480"/>
            <a:ext cx="2054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8"/>
          <p:cNvSpPr/>
          <p:nvPr/>
        </p:nvSpPr>
        <p:spPr>
          <a:xfrm flipH="1" flipV="1">
            <a:off x="3276360" y="1371600"/>
            <a:ext cx="6858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0"/>
          <p:cNvSpPr/>
          <p:nvPr/>
        </p:nvSpPr>
        <p:spPr>
          <a:xfrm flipV="1">
            <a:off x="3048120" y="2484000"/>
            <a:ext cx="914400" cy="639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2"/>
          <p:cNvSpPr/>
          <p:nvPr/>
        </p:nvSpPr>
        <p:spPr>
          <a:xfrm>
            <a:off x="3032280" y="3654360"/>
            <a:ext cx="930240" cy="917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4"/>
          <p:cNvSpPr/>
          <p:nvPr/>
        </p:nvSpPr>
        <p:spPr>
          <a:xfrm flipH="1">
            <a:off x="685440" y="4114800"/>
            <a:ext cx="609480" cy="1066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6"/>
          <p:cNvSpPr/>
          <p:nvPr/>
        </p:nvSpPr>
        <p:spPr>
          <a:xfrm>
            <a:off x="5562720" y="2819520"/>
            <a:ext cx="1066680" cy="990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 flipV="1">
            <a:off x="5562000" y="4105440"/>
            <a:ext cx="1066680" cy="1380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AF7F-886F-4A8B-8D68-AC2FBC4B95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2678400" y="990720"/>
            <a:ext cx="2054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own Arrow 9"/>
          <p:cNvSpPr/>
          <p:nvPr/>
        </p:nvSpPr>
        <p:spPr>
          <a:xfrm>
            <a:off x="3505320" y="2362320"/>
            <a:ext cx="6858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846000" y="3352680"/>
            <a:ext cx="11178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1"/>
          <p:cNvSpPr/>
          <p:nvPr/>
        </p:nvSpPr>
        <p:spPr>
          <a:xfrm>
            <a:off x="4734720" y="3276720"/>
            <a:ext cx="16254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3"/>
          <p:cNvSpPr/>
          <p:nvPr/>
        </p:nvSpPr>
        <p:spPr>
          <a:xfrm flipH="1" flipV="1">
            <a:off x="1971720" y="3814560"/>
            <a:ext cx="2752560" cy="199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647640" y="5105520"/>
            <a:ext cx="66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ecause every device exists in only one clinic but clin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have multip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What if the doctor speaks more than one language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7B72-35C6-44AB-8D6E-E37DB02C563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3972960" y="914400"/>
            <a:ext cx="15613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6639840" y="3505320"/>
            <a:ext cx="1561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9"/>
          <p:cNvSpPr/>
          <p:nvPr/>
        </p:nvSpPr>
        <p:spPr>
          <a:xfrm>
            <a:off x="5545080" y="2484360"/>
            <a:ext cx="1084320" cy="1621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03D4-B6E1-4669-866C-933C7C9D7EC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465840" y="914400"/>
            <a:ext cx="1398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6411240" y="2438280"/>
            <a:ext cx="1561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3211200" y="1523880"/>
            <a:ext cx="20736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tor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10"/>
          <p:cNvSpPr/>
          <p:nvPr/>
        </p:nvSpPr>
        <p:spPr>
          <a:xfrm flipV="1">
            <a:off x="1873080" y="2057040"/>
            <a:ext cx="1327320" cy="289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1853640" y="5105520"/>
            <a:ext cx="41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lled many to many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7"/>
          <p:cNvSpPr/>
          <p:nvPr/>
        </p:nvSpPr>
        <p:spPr>
          <a:xfrm>
            <a:off x="5295960" y="2262240"/>
            <a:ext cx="1104840" cy="776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n ER Diagram for an online travel agency system. A new user is required to create a new profile with a username and password. After logging in the system, the user inquires about different flights. The user can perform booking, changing, and canceling flight reserva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have three main tables; users, flights, and booked-fl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what information should be included in each table and what the relationships among them should b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your ER diagram to contain information about planes, airlines, and preferred me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5075-EF86-47B6-9B7D-D2ECA9400BC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4-08T17:26:00Z</dcterms:modified>
  <cp:revision>231</cp:revision>
  <dc:subject/>
  <dc:title>CPSC 203</dc:title>
</cp:coreProperties>
</file>